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50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B87-E0BB-4C5B-89E9-1864C5F0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332-4814-4AE9-BC2D-567025FF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FC5-B4A1-4BD5-AB2C-BCE0A523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C29-456E-4A96-AAAD-5ACB4521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2B9-13DB-4CE4-A135-EA7FCD99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77D-F066-4814-ADFB-DC5ECBB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D7C-BAC4-4889-8B93-1C8BE9D0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580-4E32-44E8-9E51-3301220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9AC-2812-44FA-BFD2-E2AC93D2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B60-DD32-4695-A9E2-BF714A7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2DA-8C55-4DA7-9855-865B473F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F66-2003-4D73-89B6-AF26452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103D-857D-4510-95B0-D92F1CDE16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op%202.MP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jazz%202.MPG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ock.mpg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443-6F8D-4C00-8528-DF88F6628C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b.) be familiar with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某人…对比较熟悉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熟悉她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ha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come familiar with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0800" y="3886200"/>
            <a:ext cx="59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familiar wi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A3A-B324-4E0B-AB1A-36A3FF14E8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 familiar to s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对某人来说比较熟悉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r nam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amilia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ery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familiar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r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FE1-3B4F-4AE0-A1E1-CBBA96AF5C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7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ve some fai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iet and peaceful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would prefer to do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F12-2477-4EA9-8E89-04799D126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 ---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rath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ay her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-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 rather 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isten to jaz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41911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’d rath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DBA-4622-45FE-ACA1-489FC02AE6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 +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 the tru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d not me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56B-9A27-4258-8084-532629B297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宁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而不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rather hav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red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green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ould rat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isten to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alk himself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0C3-2677-4AF7-8D96-BA7F94C68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The student would rathe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teach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par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336-22E5-4597-A5A2-CCEADDC2F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愿意坐火车旅行，不愿坐汽车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2. I would rather travel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than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280" y="358128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960" y="44197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61A-E5CD-465A-B369-D28531E752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therwise 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v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therwi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e won’t be able to h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urselve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if no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0C9-A31F-4F33-A790-028340191E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onj.    if not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Now I must g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shall be 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the birthday par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穿上大衣，否则你会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680" y="464832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ar your co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’ll be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18D-FBF8-4DA0-A397-B24F88EF0D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get to know sth. about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994-1FC7-45BB-911D-2011A92A0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must pay $ 100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The book must be he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have los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D84-3BF2-4DB7-8F87-846011C63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 not to play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ike one thing or person bet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喜欢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0AD-754C-4B1B-BF0D-3A8B473D57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him to spe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ay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8F0-E7A1-408E-B54E-FE625A01C3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不愿意你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you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 _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0080" y="411480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not to le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BB0-409D-427D-A016-FBFF97D882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 offered to drive us home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to wal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not to st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8FA-BB53-4078-B378-195438DDAF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比起后者来更喜欢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1. I prefer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English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to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Japanes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DA0-047E-458B-B3EE-387B841A18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atch TV at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ch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V at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ACD-77ED-428F-B787-B465F6BAF2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to do) sth. rather than (do) sth.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…而不愿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喜欢牛肉，不喜欢猪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pref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ooks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it idl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8098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prefer beef rather than p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505-AAE5-485D-B87E-1F31A8DEB8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refer to,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31D-67FC-4A2B-A6EC-2D22217517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prefer to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C5B-C9C5-4A6A-9DE4-F3A581ED6F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6A6-758E-4C8C-945A-1BA2B3DA0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4AD-0E0F-4B8E-B322-744910B379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D86-0BFB-4AB6-ABFB-5E29954308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C55-18D2-4DF6-BCB3-736A23DBE8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9ED-40B6-42FD-8E15-A38E1ACE5D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591-6995-494A-B510-7E21CB2C64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A48-62CD-4A3F-8F91-CE0AE310D7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04B-DB23-4045-99D0-826273E766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573-849F-48D4-983D-7A757A3E79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9FB-5C96-408A-A3F5-9BCF57D9DA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333-A52D-4345-98D2-844B64F9A7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45A-614F-463A-A9A9-CC3B3B6C66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FCB-C36C-4F42-95A9-91DDE4B875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773-567F-4BB5-96EF-6D204DE9E3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4A8-5DF9-4958-A6BF-19216536C31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FB7-65AF-418A-898C-A41E777B8A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any people write music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ll pop stars write so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Folk music has a long hi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666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779-E25B-43F5-B278-D9CF33A72B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n the old days without radio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V or  cinema, people lo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spected the music perform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ery much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Now, some musicians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the streets for free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8360" y="5334120"/>
            <a:ext cx="5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F32-2A97-4238-9EF2-1000C712365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Folk music plays an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rt in African people’s lives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China makes the most film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orld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Musicals are films with music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562-1DA4-4750-BDE2-27EAC9BC434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9. West Indians were brough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frica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 Jazz was born in 1980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 Jazz was developed i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the USA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12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45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95288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64C-DA31-4E86-9ADD-CCCB3310CD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country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ra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o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4A1-91EA-45BA-A2BF-F91E221F515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325-3954-4756-8167-2D776E1564F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FF2-8E36-4B49-8A3F-F71B56D9F4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流行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rong beat and not of l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est, especially just fav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a short time by younger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4A4-5C09-4956-8D0D-914F52369C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469-F89F-4F9E-BCBC-70EA980B305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爵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usic originated by black Americans, usually with a strong beat and some free playing by each musician in the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202-2437-4092-A5F3-BC632DDEBF5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B11-A652-4811-A27C-E8C87C0A1BE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摇滚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lso called rock and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stro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at, played loudly on elect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ments, in which the sing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peats the same few simpl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901-C110-4B05-96D6-A2F98152E9A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. Word study— Page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B. Exercise 2 — Page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964-82F8-4DA9-B46D-5948BF08F36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ww.bjedu.gov.c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460-E332-40C2-828E-FB9883A6DDA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35F-F1B4-444F-99D6-2474F7B72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A61-D5B1-4CC8-B769-70EDA4D92E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9B0-617C-44FA-A0CF-2E4B1DE4E0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amilia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4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songs that everyon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s familiar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generally  known or see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熟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C17-9AD2-4A32-84B2-B9D9AAA63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1:29:00Z</dcterms:created>
  <dc:creator>BJ4HS</dc:creator>
  <dc:description/>
  <dc:language>en-US</dc:language>
  <cp:lastModifiedBy>Zhang Lingdi</cp:lastModifiedBy>
  <dcterms:modified xsi:type="dcterms:W3CDTF">2003-06-03T06:45:43Z</dcterms:modified>
  <cp:revision>107</cp:revision>
  <dc:subject/>
  <dc:title>Unit 21 Music （一）</dc:title>
</cp:coreProperties>
</file>